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E47-AA74-40F6-888F-8DD7F994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893-9171-43E4-AB24-45AE1F92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F0D-9D47-4ECD-A976-4C1C8D9F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EA8-B93C-4D8B-8530-125B7E83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3E01-6385-4BA7-A027-BF452F0B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7F0F-0E98-44C2-BC97-50672F57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4711-809B-4509-86A8-CC6F095C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F662-DDF7-4846-93AB-0FBBBBB0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8FB6-C87A-4917-B0DE-EC80CC6F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1B05-A7C4-4BA5-96E3-1EF664FB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46FC-0324-46E0-ADC2-60E9D73D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E9A-DADD-422A-96E9-0184CDC9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A9C8-79E3-4FD8-922F-0C45FD35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466A-34FA-41C0-8F4D-C66FB742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CBA3-890C-43A2-A2DF-70632081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FFDB-8E94-4CFB-856B-2E107A16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2472-177C-4C7D-AD9B-31644246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7C6-87D4-4F3B-BD17-D3ED4DA0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1F2-F7C6-47B6-AC05-A3EC0C6D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007-0615-4F07-944B-03E7DF23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4288-E701-4326-8024-E9001552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898-3A2A-4316-9E51-240D839D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757-EF1F-4529-A5B4-B04FDEC4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3E5-D19B-4B42-84B5-E2F4EE8A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a6c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61D4-B6A1-4350-A8C0-5998A27E734F}" type="slidenum">
              <a:rPr b="0" lang="en-US" sz="1000" spc="-1" strike="noStrike">
                <a:solidFill>
                  <a:srgbClr val="00a6c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257960" y="5397480"/>
            <a:ext cx="1067040" cy="127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3"/>
          <a:stretch/>
        </p:blipFill>
        <p:spPr>
          <a:xfrm>
            <a:off x="7236000" y="5373720"/>
            <a:ext cx="10666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9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0" name="Rectangle 10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1" name="Group 11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2" name="Rectangle 12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4" name="Rectangle 14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28436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75528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03c72"/>
                </a:solidFill>
                <a:latin typeface="Verdana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A783-19F1-4813-8DFA-83422A7BF3DF}" type="slidenum">
              <a:rPr b="0" lang="en-US" sz="1000" spc="-1" strike="noStrike">
                <a:solidFill>
                  <a:srgbClr val="103c7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03c72"/>
                </a:solidFill>
                <a:latin typeface="Verdana"/>
              </a:rPr>
              <a:t>Hot Topics in Agricultur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3284280"/>
            <a:ext cx="70880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Brussels, 12 to 14 July 2010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Support to the agriculture sector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has a Ministry of ASAL (for Northern Kenya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your partners (not just Min of Agric!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Understand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Collect (jointly) information for evidence-based plannin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donor coordination around the issue of  support to pastoralist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to pastoralism to be included in NIPs, CSP, sector assessments, SPSPs etc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appropriate EC instruments and mechanis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financial modalities (e.g. specific proceedures instead of budget support) or thematic budget lines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Community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Generate information – for policy, but also self-imag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ottom up organisation and mobilis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representation skills (lobbying, advocacy, negotiation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uild capacity and confidence (literacy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Develop and strengthen pastoral forums that make a link from local to national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free information flow (radio and mobile phone coverag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upport education and training tailored to pastoralists bith in delivery and content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Somali – teachers move with the group and the herd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Group Work Farmer Organisations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0920" y="1773000"/>
            <a:ext cx="82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Divide into groups. For each group discuss the following: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What are the </a:t>
            </a:r>
            <a:r>
              <a:rPr b="1" lang="en-GB" sz="2200" spc="-1" strike="noStrike">
                <a:solidFill>
                  <a:srgbClr val="193400"/>
                </a:solidFill>
                <a:latin typeface="Verdana"/>
              </a:rPr>
              <a:t>Do’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and </a:t>
            </a:r>
            <a:r>
              <a:rPr b="1" lang="en-GB" sz="2200" spc="-1" strike="noStrike">
                <a:solidFill>
                  <a:srgbClr val="800000"/>
                </a:solidFill>
                <a:latin typeface="Verdana"/>
              </a:rPr>
              <a:t>Don’t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in supporting FO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For a country of your choice: What are specific </a:t>
            </a:r>
            <a:r>
              <a:rPr b="1" lang="en-GB" sz="2200" spc="-1" strike="noStrike">
                <a:solidFill>
                  <a:srgbClr val="800000"/>
                </a:solidFill>
                <a:latin typeface="Verdana"/>
              </a:rPr>
              <a:t>Issue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and </a:t>
            </a:r>
            <a:r>
              <a:rPr b="1" lang="en-GB" sz="2200" spc="-1" strike="noStrike">
                <a:solidFill>
                  <a:srgbClr val="193400"/>
                </a:solidFill>
                <a:latin typeface="Verdana"/>
              </a:rPr>
              <a:t>Responses</a:t>
            </a: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 in strengthening and supporting FO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buClr>
                <a:srgbClr val="19194d"/>
              </a:buClr>
              <a:buSzPct val="9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  <a:p>
            <a:pPr marL="380880" indent="-380880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9194d"/>
                </a:solidFill>
                <a:latin typeface="Verdana"/>
              </a:rPr>
              <a:t>Question for Plenary: What can you do (as EC officer in the Delegation) to improve the support to FOs?</a:t>
            </a:r>
            <a:endParaRPr b="0" lang="en-US" sz="22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What is this seminar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3c72"/>
                </a:solidFill>
                <a:latin typeface="Verdana"/>
              </a:rPr>
              <a:t>A flexible platform of exchange in order to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Provide EC staff working in the sector with a greater understanding of the current issues in agriculture with a focus on how to make this development most effective in reducing (rural) poverty...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o that participants to become more effective contributors to and supporters of agriculture for the poor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What does the seminar want to achieve? 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03c72"/>
                </a:solidFill>
                <a:latin typeface="Verdana"/>
              </a:rPr>
              <a:t>By the end of the seminar, participants should: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Be informed about key issues and latest thinking in agricultural policy and developmen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Have acquired an analytical framework on these issues to guide further learning and inform future work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399"/>
              </a:lnSpc>
              <a:spcAft>
                <a:spcPts val="1800"/>
              </a:spcAft>
              <a:buClr>
                <a:srgbClr val="103c7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2667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What does the seminar cover?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2800" indent="-530280">
              <a:lnSpc>
                <a:spcPct val="2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03c72"/>
                </a:solidFill>
                <a:latin typeface="Verdana"/>
              </a:rPr>
              <a:t>Not everything -  But a selection of issues of current concern that the EC has something to say abou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712800" indent="-530280">
              <a:lnSpc>
                <a:spcPct val="2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03c72"/>
                </a:solidFill>
                <a:latin typeface="Verdana"/>
              </a:rPr>
              <a:t>This is NOT a training </a:t>
            </a: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–</a:t>
            </a:r>
            <a:r>
              <a:rPr b="0" lang="nl-BE" sz="2000" spc="-1" strike="noStrike">
                <a:solidFill>
                  <a:srgbClr val="103c72"/>
                </a:solidFill>
                <a:latin typeface="Verdana"/>
              </a:rPr>
              <a:t> no guidelines !!!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1274760" indent="-530280">
              <a:lnSpc>
                <a:spcPct val="2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0000"/>
                </a:solidFill>
                <a:latin typeface="Verdana"/>
              </a:rPr>
              <a:t>Exchange !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  <a:p>
            <a:pPr lvl="1" marL="1274760" indent="-530280">
              <a:lnSpc>
                <a:spcPct val="2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0000"/>
                </a:solidFill>
                <a:latin typeface="Verdana"/>
              </a:rPr>
              <a:t>Feedback !</a:t>
            </a:r>
            <a:endParaRPr b="0" lang="en-US" sz="24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Programme outli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447920"/>
          <a:ext cx="7696080" cy="4622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day 12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uesday 1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dnesday 14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Expectation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3. Agriculture Growth and Social Transfer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5. Climate Change and Agricultur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1. Setting the Scene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Bangladesh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GCCA –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Field example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2. Pastoralism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4. Supporting FO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West Africa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6. Extensio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Best practice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- Mongolia, Sudan, Somaliland -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rebuchet MS"/>
                        </a:rPr>
                        <a:t>Group Work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85400"/>
                          </a:solidFill>
                          <a:latin typeface="Trebuchet MS"/>
                        </a:rPr>
                        <a:t>Ivory Coast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rebuchet MS"/>
                        </a:rPr>
                        <a:t>Group Work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9194d"/>
                          </a:solidFill>
                          <a:latin typeface="Trebuchet MS"/>
                        </a:rPr>
                        <a:t>7. Capacity4dev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34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Trebuchet MS"/>
                        </a:rPr>
                        <a:t>Group Work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03c72"/>
                </a:solidFill>
                <a:latin typeface="Verdana"/>
              </a:rPr>
              <a:t>A new perspective on peasants/smallholders </a:t>
            </a:r>
            <a:r>
              <a:rPr b="0" i="1" lang="en-GB" sz="1800" spc="-1" strike="noStrike">
                <a:solidFill>
                  <a:srgbClr val="103c72"/>
                </a:solidFill>
                <a:latin typeface="Verdana"/>
              </a:rPr>
              <a:t>van der Ploeg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A holistic approach based on livelihoods as opposed to production system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 which self-suffiency, autonomy, pride play a big rol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...produces for the market without being dependent on the market”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alance in production between ‘for the market’ and ‘for self’ provides protection against market turbulenc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avoid one dimensional focus on commercialisation (as in “farming as a business, not a way of life!”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Verdana"/>
              </a:rPr>
              <a:t>but instead focus on multi-functionality, low external input agriculture, pluri-activity, local cooperation, technical efficien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d200"/>
                </a:solidFill>
                <a:latin typeface="Verdana"/>
              </a:rPr>
              <a:t>Re-cap Day 1 </a:t>
            </a:r>
            <a:r>
              <a:rPr b="1" lang="en-US" sz="2400" spc="-1" strike="noStrike">
                <a:solidFill>
                  <a:srgbClr val="19194d"/>
                </a:solidFill>
                <a:latin typeface="Verdana"/>
              </a:rPr>
              <a:t>Setting the Scene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3c72"/>
                </a:solidFill>
                <a:latin typeface="Verdana"/>
              </a:rPr>
              <a:t>Agriculture as an awkward sector </a:t>
            </a:r>
            <a:r>
              <a:rPr b="0" i="1" lang="en-US" sz="1800" spc="-1" strike="noStrike">
                <a:solidFill>
                  <a:srgbClr val="103c72"/>
                </a:solidFill>
                <a:latin typeface="Verdana"/>
              </a:rPr>
              <a:t>by Steve Wiggin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Agriculture crucial to poverty reduction because of increased incomes, increased employment, growth in local economy and reduced food price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there are African agricultural successes! (Ghana, Burkina Faso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3c72"/>
                </a:solidFill>
                <a:latin typeface="Verdana"/>
              </a:rPr>
              <a:t>Good policy is key – good governance a pre-requisit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Distinguish between simple and complex and between policy and implementation (programme) levels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ook at sequencing – depending on departure point / target group: step up – step out – hang i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Among the ultra-poor – invest education/health in the next generation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astoralism: issues and challenges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Michele Nori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The Boran in Northern Kenya 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– </a:t>
            </a:r>
            <a:r>
              <a:rPr b="0" i="1" lang="en-GB" sz="2000" spc="-1" strike="noStrike">
                <a:solidFill>
                  <a:srgbClr val="103c72"/>
                </a:solidFill>
                <a:latin typeface="Verdana"/>
              </a:rPr>
              <a:t>Daoud Tari Abkula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d200"/>
                </a:solidFill>
                <a:latin typeface="Verdana"/>
              </a:rPr>
              <a:t>Re-cap Day 1  </a:t>
            </a:r>
            <a:r>
              <a:rPr b="1" lang="en-GB" sz="2400" spc="-1" strike="noStrike">
                <a:solidFill>
                  <a:srgbClr val="19194d"/>
                </a:solidFill>
                <a:latin typeface="Verdana"/>
              </a:rPr>
              <a:t>Pastoralism – Group Work</a:t>
            </a:r>
            <a:endParaRPr b="1" lang="en-US" sz="2400" spc="-1" strike="noStrike">
              <a:solidFill>
                <a:srgbClr val="f3d2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3c72"/>
                </a:solidFill>
                <a:latin typeface="Verdana"/>
              </a:rPr>
              <a:t>Policy level</a:t>
            </a:r>
            <a:r>
              <a:rPr b="0" lang="en-GB" sz="2000" spc="-1" strike="noStrike">
                <a:solidFill>
                  <a:srgbClr val="103c72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dentify the role of pastoralists (environmental profile)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Include pastoralist organisations in the policy dialogue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Boran became thematic group in PRSP dialogue in Kenya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nsure that pastoralism is included in the policy and legal framework 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n PRSP now has separate chapter on pastoralism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conomic policy has a Arid and Semi Arid Lands chapte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Mainstream pastoralism in the overall sector policy framework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3197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Kenya now has Nomadic Education Policy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  <a:p>
            <a:pPr marL="181080" indent="-181080">
              <a:lnSpc>
                <a:spcPts val="3197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03c72"/>
                </a:solidFill>
                <a:latin typeface="Verdana"/>
              </a:rPr>
              <a:t>Establish pastoralism as a separate sector or sub-sector</a:t>
            </a:r>
            <a:endParaRPr b="0" lang="en-US" sz="1800" spc="-1" strike="noStrike">
              <a:solidFill>
                <a:srgbClr val="103c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05:16:04Z</dcterms:created>
  <dc:creator>monacro</dc:creator>
  <dc:description/>
  <dc:language>en-US</dc:language>
  <cp:lastModifiedBy>x55b078</cp:lastModifiedBy>
  <dcterms:modified xsi:type="dcterms:W3CDTF">2010-07-13T11:18:42Z</dcterms:modified>
  <cp:revision>9</cp:revision>
  <dc:subject/>
  <dc:title>Slide 1</dc:title>
</cp:coreProperties>
</file>